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E9A-F07D-49FF-AE97-D76E3072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317-B564-4628-98CB-9151F5B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11C-D056-4319-B051-CDD27E24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614-747B-4713-84B1-F0B3CBD4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CDE-404C-40EA-A5B4-59536237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CEB-1630-47A9-AB25-2FBC993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351-7419-4978-ABC8-7A22CA8A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296-921D-4444-8CC0-C3F7E59D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169-7EA8-4BBA-8773-AD56FDD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770-51C6-4E2B-B370-B5F7517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554-3C7F-478C-A8A5-BF6A3BA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1C7-76BA-4CC0-947A-0B83861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6D3-59B7-4248-9879-B46300E3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6541920" cy="1727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19480" y="28558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30481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22000" y="2097000"/>
            <a:ext cx="33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976400" y="210816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thematical sentence with an equal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890800" y="363204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equation with one or mo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804840" y="5105520"/>
            <a:ext cx="43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for a variable that makes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quation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001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48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960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057400" y="19810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200400" y="22860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867280" y="198108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7162920" y="22860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63440" y="533520"/>
            <a:ext cx="8980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36:22Z</dcterms:created>
  <dc:creator>Graham</dc:creator>
  <dc:description/>
  <dc:language>en-US</dc:language>
  <cp:lastModifiedBy>Sue Graham</cp:lastModifiedBy>
  <dcterms:modified xsi:type="dcterms:W3CDTF">2013-10-08T12:05:51Z</dcterms:modified>
  <cp:revision>3</cp:revision>
  <dc:subject/>
  <dc:title>Slide 1</dc:title>
</cp:coreProperties>
</file>